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FCF-61ED-4B02-8568-D30697D8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927-A596-4B99-BF7F-6D4EE618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6A5-26C0-4B59-8EE4-5A513141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FAC-25CC-4C8E-8A88-6E7BB91B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82B-1431-4A58-83B8-04DC118F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065-88FC-44D7-A72A-1A37B68B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3CF-935A-4760-8CF5-AF70834E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FC7-B93D-4C57-B22D-68D19649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A19-2EB7-4CC5-B13D-02A763B0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3C2-9259-41A6-8716-1E512044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F03-34C2-4334-BCF1-B8F6C0FB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FC4-28CD-4EE7-84D6-B99C09DE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7CB4-E171-4968-B951-BD4D047EB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STEMA DE AGUAS SUBTERRA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AGUA  SUBTERRANEA  ES UNA PARTE  INTEGRAL DEL SISTEMA HIDROLÓGICO,  Y ESTÁ ÍNTIMAMENTE  RELACIONADO  CON  EL DRENAJE  DEL  AGUA SUPERFICIAL.   ES  UN  FENÓMENO   COMÚ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MOVIMIENTO  DEL AGUA   SUBTERRANEA  ES  CONTRALADO AMPLIAMEMNTE   POR 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RO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S ROCAS A TRAVÉS DE LAS QUE FLUY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O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ORCENTAJE  DE  HUECOS  DEL VOLUMEN  TOTAL   DE  LA ROCA     (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PACIOS ENTRE GRANOS,   FRACTURAS,    CAVIDADES POR DISOLUCIÓN,  VESÍCU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PACIDAD DE LA ROCA PARA TRANSMITIR UN  FLUIDO.   DEPENDERÁ  DE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VISCOSIDAD  DEL FL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SIÓN HIDROSTÁT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AMAÑO DE LOS HUEC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OR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TICULARMENTE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GRADO DE INTERCONECCIÓN DE LOS POR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lujo es lento: m/día  o  m/añ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CUÍFER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SON  ROCAS  PERMEABLES   SATURADAS  DE AGUA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AP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 AGUAS  SUPTERRANE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ES  LA  SUPERFICIE   SUPERIOR  DE  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SATURA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 ENCIMA DE   ELLA   ESTÁ   L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AIRE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AGUA  SUBTERRANEA   ESCURRE   POR  GRAVEDAD,   PROVOCADO   POR  LA DIFERENCIA  DE ALTURA TOPOGRÁFICA  DE  LA  NAPA.  SE MUEVE DE  ZONAS DE ALTA PRESIÓN A ZONAS DE BAJA 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NATURAL  DEL AGUA   SUBTERRANEA  OCURRE   DONDE   EL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INTERSECTA  LA SUPERFICIE DEL SUELO  (O  DE EROSIÓN).  SUCEDE EN LUGARES POCO SOBRESALIENTES,  GENERALMENTE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OYOS,  CIÉNAG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NTAN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Y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LAG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LO  HACEN EN  FUNCIÓN DE  LA LITOLOGÍA,  ESTRUCTURA Y TOPOGRAFÍA DEL TERRENO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ARTIFICIAL   ES  A TRAVÉS D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ZO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DE  SE GENERAN  LOS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OS DE DEPRES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10800000">
            <a:off x="380880" y="-720"/>
            <a:ext cx="87631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GUA ARTESIAN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ESTÁ CONFINADA  BAJO PRESIÓN,  COMO AGUA  EN  UNA  PIPA.   ELLA  ESCURRE   EN  UNA  CAPA  PERMEABLE,   LIMITADA  ENTRE   FORMACIONES  IMPERMEABLES.   DONDE ESTE ACUÍFERO INTERSECTA  UNA PARED  O  FRACTURA,   EL AGUA ASCIENDE  POR LA APERTURA Y  ORIGINA  UN  MANANTIAL  DE CORRIENTE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   ARTESI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MOVIMIENTO  LENTO  DEL AGUA SUBTERRANEA  PUEDE  DISOLVER ENORMES  CANTIDADES DE  ROCAS SOLUBLES Y TRANSPORTARLAS   LEJOS EN SOLUCIÓNES.  EN ALGUNAS ÁREAS ES EL AGENTE DE EROSIÓN DOMINANTE, PRODUCIENDO  UN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OPOGRAFÍA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KARS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,   QUE  SE CARACTERIZA POR LA EXISTENCIA DE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AVERNAS,  HOY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ERRENOS  HUNDIDOS, DOLINAS,  VALLES  DE  DISOLU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ESAPARICIÓN  DE CORR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23688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PRECIPITACIÓN  DE  MINERALES  DEL   AGUA  SUBTERRANEA   CREA  DEPÓSITOS  DE VARIADAS  FORMAS EN  CAVERNAS,  TALES   COMO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TIT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Y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MITAS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 PRODUCTOS 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DE   TRAVERTI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LICIFICACIÓN   DE  TRON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PÓSITOS DE MINE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OS   OBVIO   SON   LOS DEPÓSITOS  EN   ROCAS   PERMEABLES,  COMO ARENISCAS   Y CONGLOMERADOS,    DONDE   EL   AGUA SUBTERRANEA COMÚNMENTE   DEPOSITA  MATERIAL COMO CEMENTO ENTRE LOS GRAN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LTERACIÓN   DEL  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ALTERACIÓN DEL AGUA SUBTERRANEA POR ACTIVIDAD HUMANA   PUEDE   PRODUCIR  VARIOS  PROBLEMAS  IMPREVISTOS,  TALES   COMO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LU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OMPOSICIÓN  QUÍMICA,   INVASIÓN   DE   AGUAS  SA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EL  LITORAL   ( HASTA EL  CONO DE DEPRESIÓN),   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BIOS  DEL NIV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BSIDENCIA,   COLAPSOS,   INTERUPCIÓN   DE   ECOSISTE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   TERMALES    Y   GEY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AREAS  CON ACTIVIDAD   IGNEA RECIENTE,  LAS ROCAS ASOCIADAS  CON VIEJAS  CÁMARAS MAGMÁTICAS  PUEDEN  MANTENER  ALTAS  TEMPERATURAS  REMANENTES  POR CIENTOS Y MILES DE AÑ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GUA SUBTERRANEA QUE FLUYE A TRAVÉS  DE  ESTA  ÁREAS  SE CALIENTA,  Y CUANDO   DESCARGA  EN  LA SUPERFICIE  PRODUC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TERMALES Y GEYSER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GEYSERS TIENE ERUPCIONES CÍCLICAS  Y SON UNA FUENTE  DE ENERGÍA  PARA  EL USO HUMANO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(ENERGÍA GEOTERM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22:06:05Z</dcterms:created>
  <dc:creator>Universidad de Chile</dc:creator>
  <dc:description/>
  <dc:language>en-US</dc:language>
  <cp:lastModifiedBy>Universidad de Chile</cp:lastModifiedBy>
  <dcterms:modified xsi:type="dcterms:W3CDTF">2001-10-09T01:40:34Z</dcterms:modified>
  <cp:revision>11</cp:revision>
  <dc:subject/>
  <dc:title>SISTEMA DE AGUAS SUBTERRANEAS</dc:title>
</cp:coreProperties>
</file>